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B62-DE82-4A52-8011-DA713FA3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1B3-CD1B-463C-8E5A-6B0D24A0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669B2-23D1-4794-8F0F-C0E401CC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3C5AA-4B98-44A3-B436-D3BDC8DA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9D432-84B4-4625-ACFD-A67CCD26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843C4-8E71-4524-ADA2-CD39B830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AD946-9565-457D-B374-B36E9001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32C9F-DAFB-4704-9E44-9C599D7A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B61C1-51F4-4F28-B941-DC327919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585DE-1F77-48E1-8D3B-C58633C3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9A369-EFC9-4F8C-B805-EBB2802E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3399-1790-4D8C-92BB-02C945E2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CE29-A496-4078-BD6B-67E72932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3BE7-6ABF-42C1-B575-FDA35AC5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8C6E-F092-406B-8D8F-20DE5CA4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AEF9-5841-48D0-B549-B60DADCA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9757-42EB-4717-A9C4-E9F798E0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3529-25BC-4F2A-A6C0-452B3F29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3A70-17F7-4B10-BC59-D67B0E63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106E-F72D-4FF4-B675-EFCF3F7D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4475-777C-4035-B0D7-FD6804E4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73CB-315F-4F72-B158-69364950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74C1-107B-428C-B852-E6D96F4D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DC91-4F52-49CD-A8BE-29F78A9B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7CF0-ECA2-4923-9EF4-C2DD6554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00E0-7F27-4DE7-8B61-E0E4FF1A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D4BD0-ED17-4DD2-9DC1-819D4345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3D358-006D-4B93-BDF2-05F470A4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275CF-F2FE-4A64-94DD-20FD426B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ACA32-4287-4E3F-8D0E-21653D73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42255-1104-4DDC-A9F5-BE1CEFC7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FB4-2F77-4D60-9096-3158F78E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69ED-7969-4AE3-92F1-28B34282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C9260-0E2F-4026-88AD-9C072BFF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A9BDB-4BA8-4238-8BBF-952CBF41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812B4-2BFD-4B48-ABCC-FFD24AD8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34A25-107A-4C63-AB04-DB59E3A8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B7C67-5C31-4A80-A6BF-38B9240B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8AFC7-DE09-4380-87A6-862D4E22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121A4-6AD6-4D19-B5F2-088117DD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CBE9C-641C-4B49-B2F4-3AC05857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A1161-71EA-4921-9037-72A404DF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CB7-BCB1-401C-9540-8700AC41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F4113-2FD1-42FA-9E3C-E5CCB68C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7A1D3-C311-405A-A028-FD278663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9A1E0-0C68-4806-B443-5B3876C0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41E70-FD7A-49B5-9FCB-E508F1AE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B84F7-E94C-4A9C-923F-ECF8B615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9C5E6-AE9A-436E-B34D-5CE2A5E0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2A388-FC92-4C8D-981F-422EC7AA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D942F-67B7-47D6-8012-F7730DEC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FEEC5-595F-4B3C-87CA-B2C605EF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20DD5-D607-48A3-854B-B955041D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0D9-0500-4707-98E2-81D9F0E2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FE242-83A1-4327-8624-5CE6EE29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1F69D-E1F7-488C-BDB6-359EBF5B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D1B1D-DE22-4F7F-8D2E-6F03E775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AE4D9-AEA3-4D04-A894-591A4D7B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A3C2E-AD2F-4B91-AFD3-31B75324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16252-EBD3-4D03-8F94-E8B2D604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4541B-A061-4BDF-974D-CB25930C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FBFF2-C80D-4732-98E1-064B80A8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7D948-A13B-49BD-8C78-7A6E1420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42B51-D883-4022-AA66-B59D4503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F31-BBF4-4079-B908-108EB684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81E89-4104-4551-8878-F427AA5F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3FE8C-CE1E-4327-8A5F-D6B144FC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EDE29-A447-4AFB-B327-8D55C3CD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D825D-37B0-4EC2-86ED-43CC91B4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4ECE0-57BD-4C30-B013-743A5F27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386C4-C8E4-4E49-B0B7-370549D0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1DA8A-8615-408D-BC11-BE7CE415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AA488-2021-444E-B6EC-9E49727C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95617-7683-483C-A4FF-1A524DF4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C40BD-D4A7-4F1A-92F4-934FEA58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B86E-BEDD-4CC9-8C1A-F577DAF0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558E6-C619-4A37-98CA-4A0851E6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E0CC5-3395-4D28-A929-9A7AF5DE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23878-A852-469A-82DE-3AF04011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E76C8-E67A-4BB0-8E81-EBD7C818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D3679-56A2-4E9E-8C89-0D5FF85C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53C89-20E4-46A5-AD4C-6C9E4B6E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A2832-13E5-4D55-A426-38E1FD49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D7518-94E2-4B37-A20D-0AAACA5E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4A580-DB5D-4376-87E4-4794785E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470AF-E441-47C5-8854-3E9E3D88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88FC-2F71-4BB4-92C1-7C3E72C6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AAE8F-02EC-436B-837B-86017F75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06A74-1908-4EAD-91D2-420B19B5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D9945-A2EE-48CD-9A53-B1597547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08597-E634-49B7-96BC-C1C77FAC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80050-DEB0-400E-A5B3-0941516E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DDFF7-E019-46F8-B045-93D5B721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AFCE9-F249-4CB7-84E0-65784181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8AFE0-44E6-4031-8903-C7B960A2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C8AE6-9E21-45FD-89BB-2F111D9B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E4A33-0CCA-4611-85E9-1CE11508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077-C0B7-4FE5-9B0F-3972644D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F4095-217B-41B9-9FC1-1654BF11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499C7-CDA8-4098-B5DC-3DC59B73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94AB6-64FA-4DDF-8682-9412C422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38BE7-1EA1-45FD-97B3-9D2EA316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53B46-5BFD-4F06-A45E-E5C1F0DE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86615-8762-40A3-BDCC-D9205A5A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24815-83E4-42CE-B8FD-618D8003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86855-EA31-4E30-853B-63A3FF1D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074E7-1FA7-45D8-B87F-B12E8828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65DFE-6E2E-4F3B-AAAC-4C25255B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53C0-3503-4D70-A477-B1F56A332F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7"/>
          <p:cNvSpPr/>
          <p:nvPr/>
        </p:nvSpPr>
        <p:spPr>
          <a:xfrm rot="5400000">
            <a:off x="4494240" y="-838080"/>
            <a:ext cx="3200400" cy="121917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2191760"/>
              <a:gd name="textAreaBottom" fmla="*/ 12192120 h 1219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3"/>
          <p:cNvSpPr/>
          <p:nvPr/>
        </p:nvSpPr>
        <p:spPr>
          <a:xfrm>
            <a:off x="0" y="0"/>
            <a:ext cx="12192120" cy="4381560"/>
          </a:xfrm>
          <a:custGeom>
            <a:avLst/>
            <a:gdLst/>
            <a:ahLst/>
            <a:rect l="l" t="t" r="r" b="b"/>
            <a:pathLst>
              <a:path w="12192000" h="5044965">
                <a:moveTo>
                  <a:pt x="0" y="0"/>
                </a:moveTo>
                <a:lnTo>
                  <a:pt x="12192000" y="0"/>
                </a:lnTo>
                <a:lnTo>
                  <a:pt x="12192000" y="4210775"/>
                </a:lnTo>
                <a:lnTo>
                  <a:pt x="6132786" y="5044965"/>
                </a:lnTo>
                <a:lnTo>
                  <a:pt x="0" y="421077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5"/>
          <p:cNvSpPr/>
          <p:nvPr/>
        </p:nvSpPr>
        <p:spPr>
          <a:xfrm>
            <a:off x="6095880" y="0"/>
            <a:ext cx="6096240" cy="4572000"/>
          </a:xfrm>
          <a:custGeom>
            <a:avLst/>
            <a:gdLst/>
            <a:ahLst/>
            <a:rect l="l" t="t" r="r" b="b"/>
            <a:pathLst>
              <a:path w="6096000" h="4572001">
                <a:moveTo>
                  <a:pt x="0" y="0"/>
                </a:moveTo>
                <a:lnTo>
                  <a:pt x="6096000" y="0"/>
                </a:lnTo>
                <a:lnTo>
                  <a:pt x="6096000" y="3846788"/>
                </a:lnTo>
                <a:lnTo>
                  <a:pt x="0" y="457200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组合 10" descr=""/>
          <p:cNvPicPr/>
          <p:nvPr/>
        </p:nvPicPr>
        <p:blipFill>
          <a:blip r:embed="rId4"/>
          <a:stretch/>
        </p:blipFill>
        <p:spPr>
          <a:xfrm>
            <a:off x="1847880" y="4797360"/>
            <a:ext cx="663480" cy="658800"/>
          </a:xfrm>
          <a:prstGeom prst="rect">
            <a:avLst/>
          </a:prstGeom>
          <a:ln w="0">
            <a:noFill/>
          </a:ln>
        </p:spPr>
      </p:pic>
      <p:pic>
        <p:nvPicPr>
          <p:cNvPr id="47" name="组合 17" descr=""/>
          <p:cNvPicPr/>
          <p:nvPr/>
        </p:nvPicPr>
        <p:blipFill>
          <a:blip r:embed="rId5"/>
          <a:stretch/>
        </p:blipFill>
        <p:spPr>
          <a:xfrm>
            <a:off x="8180280" y="4780080"/>
            <a:ext cx="658800" cy="657000"/>
          </a:xfrm>
          <a:prstGeom prst="rect">
            <a:avLst/>
          </a:prstGeom>
          <a:ln w="0">
            <a:noFill/>
          </a:ln>
        </p:spPr>
      </p:pic>
      <p:pic>
        <p:nvPicPr>
          <p:cNvPr id="48" name="组合 22" descr=""/>
          <p:cNvPicPr/>
          <p:nvPr/>
        </p:nvPicPr>
        <p:blipFill>
          <a:blip r:embed="rId6"/>
          <a:stretch/>
        </p:blipFill>
        <p:spPr>
          <a:xfrm>
            <a:off x="4645080" y="4797360"/>
            <a:ext cx="658800" cy="665280"/>
          </a:xfrm>
          <a:prstGeom prst="rect">
            <a:avLst/>
          </a:prstGeom>
          <a:ln w="0">
            <a:noFill/>
          </a:ln>
        </p:spPr>
      </p:pic>
      <p:sp>
        <p:nvSpPr>
          <p:cNvPr id="49" name="燕尾形 30"/>
          <p:cNvSpPr/>
          <p:nvPr/>
        </p:nvSpPr>
        <p:spPr>
          <a:xfrm rot="5400000">
            <a:off x="5638320" y="-1981080"/>
            <a:ext cx="914400" cy="12192120"/>
          </a:xfrm>
          <a:custGeom>
            <a:avLst/>
            <a:gdLst>
              <a:gd name="textAreaLeft" fmla="*/ 0 w 914400"/>
              <a:gd name="textAreaRight" fmla="*/ 914760 w 914400"/>
              <a:gd name="textAreaTop" fmla="*/ 0 h 12192120"/>
              <a:gd name="textAreaBottom" fmla="*/ 12192480 h 1219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69" y="0"/>
                </a:lnTo>
                <a:lnTo>
                  <a:pt x="21600" y="10800"/>
                </a:lnTo>
                <a:lnTo>
                  <a:pt x="4969" y="21600"/>
                </a:lnTo>
                <a:lnTo>
                  <a:pt x="0" y="21600"/>
                </a:lnTo>
                <a:lnTo>
                  <a:pt x="16631" y="10800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8CCD-3EFB-429C-A059-C7218C4617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2E69-E610-41C1-A0D3-085FA8D3717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1"/>
          <p:cNvGrpSpPr/>
          <p:nvPr/>
        </p:nvGrpSpPr>
        <p:grpSpPr>
          <a:xfrm>
            <a:off x="263520" y="2465280"/>
            <a:ext cx="914400" cy="1927440"/>
            <a:chOff x="263520" y="2465280"/>
            <a:chExt cx="914400" cy="1927440"/>
          </a:xfrm>
        </p:grpSpPr>
        <p:sp>
          <p:nvSpPr>
            <p:cNvPr id="139" name="矩形 8"/>
            <p:cNvSpPr/>
            <p:nvPr/>
          </p:nvSpPr>
          <p:spPr>
            <a:xfrm>
              <a:off x="263520" y="2465280"/>
              <a:ext cx="125280" cy="1927440"/>
            </a:xfrm>
            <a:prstGeom prst="rect">
              <a:avLst/>
            </a:prstGeom>
            <a:solidFill>
              <a:srgbClr val="333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9"/>
            <p:cNvSpPr/>
            <p:nvPr/>
          </p:nvSpPr>
          <p:spPr>
            <a:xfrm>
              <a:off x="444240" y="2465280"/>
              <a:ext cx="733680" cy="1927440"/>
            </a:xfrm>
            <a:prstGeom prst="rect">
              <a:avLst/>
            </a:prstGeom>
            <a:solidFill>
              <a:srgbClr val="333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组合 13"/>
            <p:cNvGrpSpPr/>
            <p:nvPr/>
          </p:nvGrpSpPr>
          <p:grpSpPr>
            <a:xfrm>
              <a:off x="557640" y="2664000"/>
              <a:ext cx="482760" cy="654840"/>
              <a:chOff x="557640" y="2664000"/>
              <a:chExt cx="482760" cy="654840"/>
            </a:xfrm>
          </p:grpSpPr>
          <p:sp>
            <p:nvSpPr>
              <p:cNvPr id="142" name="KSO_Shape"/>
              <p:cNvSpPr/>
              <p:nvPr/>
            </p:nvSpPr>
            <p:spPr>
              <a:xfrm>
                <a:off x="633600" y="2664000"/>
                <a:ext cx="374760" cy="572400"/>
              </a:xfrm>
              <a:custGeom>
                <a:avLst/>
                <a:gdLst/>
                <a:ahLst/>
                <a:rect l="l" t="t" r="r" b="b"/>
                <a:pathLst>
                  <a:path w="791665" h="1206638">
                    <a:moveTo>
                      <a:pt x="395833" y="194422"/>
                    </a:moveTo>
                    <a:cubicBezTo>
                      <a:pt x="284597" y="194422"/>
                      <a:pt x="194422" y="284596"/>
                      <a:pt x="194422" y="395833"/>
                    </a:cubicBezTo>
                    <a:cubicBezTo>
                      <a:pt x="194422" y="507069"/>
                      <a:pt x="284597" y="597244"/>
                      <a:pt x="395833" y="597244"/>
                    </a:cubicBezTo>
                    <a:cubicBezTo>
                      <a:pt x="507070" y="597244"/>
                      <a:pt x="597244" y="507069"/>
                      <a:pt x="597244" y="395833"/>
                    </a:cubicBezTo>
                    <a:cubicBezTo>
                      <a:pt x="597244" y="284596"/>
                      <a:pt x="507070" y="194422"/>
                      <a:pt x="395833" y="194422"/>
                    </a:cubicBezTo>
                    <a:close/>
                    <a:moveTo>
                      <a:pt x="395833" y="0"/>
                    </a:moveTo>
                    <a:cubicBezTo>
                      <a:pt x="497135" y="-1"/>
                      <a:pt x="598438" y="38646"/>
                      <a:pt x="675729" y="115937"/>
                    </a:cubicBezTo>
                    <a:cubicBezTo>
                      <a:pt x="830312" y="270519"/>
                      <a:pt x="830312" y="521146"/>
                      <a:pt x="675729" y="675729"/>
                    </a:cubicBezTo>
                    <a:lnTo>
                      <a:pt x="374888" y="1206638"/>
                    </a:lnTo>
                    <a:cubicBezTo>
                      <a:pt x="281589" y="1113339"/>
                      <a:pt x="209236" y="769028"/>
                      <a:pt x="115937" y="675729"/>
                    </a:cubicBezTo>
                    <a:cubicBezTo>
                      <a:pt x="-38646" y="521146"/>
                      <a:pt x="-38646" y="270519"/>
                      <a:pt x="115937" y="115937"/>
                    </a:cubicBezTo>
                    <a:cubicBezTo>
                      <a:pt x="193228" y="38646"/>
                      <a:pt x="294531" y="-1"/>
                      <a:pt x="39583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椭圆 12"/>
              <p:cNvSpPr/>
              <p:nvPr/>
            </p:nvSpPr>
            <p:spPr>
              <a:xfrm>
                <a:off x="557640" y="3236400"/>
                <a:ext cx="48276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3845-8253-4DD8-84DA-F880D1F479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2265-ADFF-47B4-A386-F9B1E57C0E8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1218564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燕尾形 8"/>
          <p:cNvSpPr/>
          <p:nvPr/>
        </p:nvSpPr>
        <p:spPr>
          <a:xfrm>
            <a:off x="1936800" y="0"/>
            <a:ext cx="9402840" cy="6858000"/>
          </a:xfrm>
          <a:custGeom>
            <a:avLst/>
            <a:gdLst>
              <a:gd name="textAreaLeft" fmla="*/ 0 w 9402840"/>
              <a:gd name="textAreaRight" fmla="*/ 9403200 w 940284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30" y="0"/>
                </a:lnTo>
                <a:lnTo>
                  <a:pt x="21600" y="10800"/>
                </a:lnTo>
                <a:lnTo>
                  <a:pt x="14130" y="21600"/>
                </a:lnTo>
                <a:lnTo>
                  <a:pt x="0" y="21600"/>
                </a:lnTo>
                <a:lnTo>
                  <a:pt x="7470" y="10800"/>
                </a:lnTo>
                <a:close/>
              </a:path>
            </a:pathLst>
          </a:custGeom>
          <a:solidFill>
            <a:srgbClr val="99cc00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燕尾形 9"/>
          <p:cNvSpPr/>
          <p:nvPr/>
        </p:nvSpPr>
        <p:spPr>
          <a:xfrm>
            <a:off x="8244000" y="0"/>
            <a:ext cx="3898800" cy="6858000"/>
          </a:xfrm>
          <a:custGeom>
            <a:avLst/>
            <a:gdLst>
              <a:gd name="textAreaLeft" fmla="*/ 0 w 3898800"/>
              <a:gd name="textAreaRight" fmla="*/ 3899160 w 38988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643" y="0"/>
                </a:lnTo>
                <a:lnTo>
                  <a:pt x="21600" y="10800"/>
                </a:lnTo>
                <a:lnTo>
                  <a:pt x="3643" y="21600"/>
                </a:lnTo>
                <a:lnTo>
                  <a:pt x="0" y="21600"/>
                </a:lnTo>
                <a:lnTo>
                  <a:pt x="17957" y="10800"/>
                </a:ln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燕尾形 10"/>
          <p:cNvSpPr/>
          <p:nvPr/>
        </p:nvSpPr>
        <p:spPr>
          <a:xfrm>
            <a:off x="1150920" y="0"/>
            <a:ext cx="3898800" cy="6858000"/>
          </a:xfrm>
          <a:custGeom>
            <a:avLst/>
            <a:gdLst>
              <a:gd name="textAreaLeft" fmla="*/ 0 w 3898800"/>
              <a:gd name="textAreaRight" fmla="*/ 3899160 w 38988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643" y="0"/>
                </a:lnTo>
                <a:lnTo>
                  <a:pt x="21600" y="10800"/>
                </a:lnTo>
                <a:lnTo>
                  <a:pt x="3643" y="21600"/>
                </a:lnTo>
                <a:lnTo>
                  <a:pt x="0" y="21600"/>
                </a:lnTo>
                <a:lnTo>
                  <a:pt x="17957" y="10800"/>
                </a:ln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6F7E-B49F-4125-B277-1B888400C5F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C298-ECED-443E-B663-D25E3D75BF6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1422-0EE4-405E-8EE3-4DA6B9BA757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DC13-0B56-4918-9E57-BDE040AD61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4"/>
          <p:cNvSpPr txBox="1"/>
          <p:nvPr/>
        </p:nvSpPr>
        <p:spPr>
          <a:xfrm>
            <a:off x="3359160" y="1693800"/>
            <a:ext cx="547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微软雅黑"/>
              </a:rPr>
              <a:t>快乐读书吧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61880" y="225360"/>
            <a:ext cx="705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统编教材二年级上册第一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2590920" y="3328920"/>
            <a:ext cx="70117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江苏省苏州市吴江区盛泽实验小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李萍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jr06"/>
          <p:cNvPicPr/>
          <p:nvPr/>
        </p:nvPicPr>
        <p:blipFill>
          <a:blip r:embed="rId1"/>
          <a:stretch/>
        </p:blipFill>
        <p:spPr>
          <a:xfrm>
            <a:off x="152388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Documents and Settings\Administrator\桌面\09.jpg"/>
          <p:cNvPicPr/>
          <p:nvPr/>
        </p:nvPicPr>
        <p:blipFill>
          <a:blip r:embed="rId2"/>
          <a:stretch/>
        </p:blipFill>
        <p:spPr>
          <a:xfrm>
            <a:off x="1776240" y="4578480"/>
            <a:ext cx="8568000" cy="196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AutoShape 18"/>
          <p:cNvSpPr/>
          <p:nvPr/>
        </p:nvSpPr>
        <p:spPr>
          <a:xfrm>
            <a:off x="534960" y="219240"/>
            <a:ext cx="3745080" cy="2349360"/>
          </a:xfrm>
          <a:prstGeom prst="cloudCallout">
            <a:avLst>
              <a:gd name="adj1" fmla="val 86675"/>
              <a:gd name="adj2" fmla="val 53254"/>
            </a:avLst>
          </a:prstGeom>
          <a:solidFill>
            <a:srgbClr val="ccffcc">
              <a:alpha val="30000"/>
            </a:srgbClr>
          </a:solidFill>
          <a:ln cap="rnd" w="93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766960" y="3025800"/>
            <a:ext cx="7456680" cy="3340080"/>
          </a:xfrm>
          <a:prstGeom prst="rect">
            <a:avLst/>
          </a:prstGeom>
          <a:ln w="47520">
            <a:solidFill>
              <a:srgbClr val="00b050"/>
            </a:solidFill>
            <a:miter/>
          </a:ln>
        </p:spPr>
      </p:pic>
      <p:sp>
        <p:nvSpPr>
          <p:cNvPr id="419" name="TextBox 1"/>
          <p:cNvSpPr/>
          <p:nvPr/>
        </p:nvSpPr>
        <p:spPr>
          <a:xfrm>
            <a:off x="946080" y="10746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他们分别叫什么名字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2895480" y="3025800"/>
            <a:ext cx="1884600" cy="146988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41"/>
          <p:cNvGrpSpPr/>
          <p:nvPr/>
        </p:nvGrpSpPr>
        <p:grpSpPr>
          <a:xfrm>
            <a:off x="8710560" y="3301920"/>
            <a:ext cx="1513080" cy="549360"/>
            <a:chOff x="8710560" y="3301920"/>
            <a:chExt cx="1513080" cy="549360"/>
          </a:xfrm>
        </p:grpSpPr>
        <p:sp>
          <p:nvSpPr>
            <p:cNvPr id="422" name="AutoShape 42"/>
            <p:cNvSpPr/>
            <p:nvPr/>
          </p:nvSpPr>
          <p:spPr>
            <a:xfrm>
              <a:off x="8710560" y="3301920"/>
              <a:ext cx="1513080" cy="549360"/>
            </a:xfrm>
            <a:prstGeom prst="roundRect">
              <a:avLst>
                <a:gd name="adj" fmla="val 50000"/>
              </a:avLst>
            </a:prstGeom>
            <a:solidFill>
              <a:srgbClr val="ffcc00"/>
            </a:soli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43"/>
            <p:cNvSpPr/>
            <p:nvPr/>
          </p:nvSpPr>
          <p:spPr>
            <a:xfrm>
              <a:off x="8750880" y="3316680"/>
              <a:ext cx="14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不高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8"/>
          <p:cNvGrpSpPr/>
          <p:nvPr/>
        </p:nvGrpSpPr>
        <p:grpSpPr>
          <a:xfrm>
            <a:off x="1171440" y="371520"/>
            <a:ext cx="5472000" cy="647640"/>
            <a:chOff x="1171440" y="371520"/>
            <a:chExt cx="5472000" cy="647640"/>
          </a:xfrm>
        </p:grpSpPr>
        <p:sp>
          <p:nvSpPr>
            <p:cNvPr id="425" name="AutoShape 6"/>
            <p:cNvSpPr/>
            <p:nvPr/>
          </p:nvSpPr>
          <p:spPr>
            <a:xfrm>
              <a:off x="1171440" y="371520"/>
              <a:ext cx="547200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7"/>
            <p:cNvSpPr/>
            <p:nvPr/>
          </p:nvSpPr>
          <p:spPr>
            <a:xfrm>
              <a:off x="1315800" y="371520"/>
              <a:ext cx="53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听故事，猜一猜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矩形 11"/>
          <p:cNvSpPr/>
          <p:nvPr/>
        </p:nvSpPr>
        <p:spPr>
          <a:xfrm>
            <a:off x="679320" y="1658880"/>
            <a:ext cx="358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没头脑” 赶紧找回了书包，可是又发生了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7335720" y="150984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不高兴”站在墙头耍杂技 ，老师赶紧喊他下来，他会怎么回答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1"/>
          <p:cNvSpPr/>
          <p:nvPr/>
        </p:nvSpPr>
        <p:spPr>
          <a:xfrm>
            <a:off x="7021440" y="1219320"/>
            <a:ext cx="4260960" cy="2090520"/>
          </a:xfrm>
          <a:prstGeom prst="wedgeRoundRectCallout">
            <a:avLst>
              <a:gd name="adj1" fmla="val -37759"/>
              <a:gd name="adj2" fmla="val 83773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0"/>
          <p:cNvSpPr/>
          <p:nvPr/>
        </p:nvSpPr>
        <p:spPr>
          <a:xfrm>
            <a:off x="434880" y="1523880"/>
            <a:ext cx="4075200" cy="1643040"/>
          </a:xfrm>
          <a:prstGeom prst="wedgeRoundRectCallout">
            <a:avLst>
              <a:gd name="adj1" fmla="val 30162"/>
              <a:gd name="adj2" fmla="val 82486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2857680" y="4033800"/>
            <a:ext cx="5614920" cy="248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16"/>
          <p:cNvGrpSpPr/>
          <p:nvPr/>
        </p:nvGrpSpPr>
        <p:grpSpPr>
          <a:xfrm>
            <a:off x="396720" y="925560"/>
            <a:ext cx="4247640" cy="1252080"/>
            <a:chOff x="396720" y="925560"/>
            <a:chExt cx="4247640" cy="1252080"/>
          </a:xfrm>
        </p:grpSpPr>
        <p:sp>
          <p:nvSpPr>
            <p:cNvPr id="433" name="AutoShape 12"/>
            <p:cNvSpPr/>
            <p:nvPr/>
          </p:nvSpPr>
          <p:spPr>
            <a:xfrm>
              <a:off x="396720" y="925560"/>
              <a:ext cx="4247640" cy="1252080"/>
            </a:xfrm>
            <a:prstGeom prst="wedgeRoundRectCallout">
              <a:avLst>
                <a:gd name="adj1" fmla="val 39513"/>
                <a:gd name="adj2" fmla="val 77916"/>
                <a:gd name="adj3" fmla="val 16667"/>
              </a:avLst>
            </a:prstGeom>
            <a:noFill/>
            <a:ln cap="rnd" w="349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5"/>
            <p:cNvSpPr/>
            <p:nvPr/>
          </p:nvSpPr>
          <p:spPr>
            <a:xfrm>
              <a:off x="611640" y="1071720"/>
              <a:ext cx="403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</a:rPr>
                <a:t>为什么他们的名字叫“没头脑”和“不高兴”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5" name="Picture 1" descr="C:\Documents and Settings\Administrator\Application Data\Tencent\Users\2399319046\QQ\WinTemp\RichOle\F5H(@N0~VBG1V~LGIF]4W[K.png"/>
          <p:cNvPicPr/>
          <p:nvPr/>
        </p:nvPicPr>
        <p:blipFill>
          <a:blip r:embed="rId1"/>
          <a:stretch/>
        </p:blipFill>
        <p:spPr>
          <a:xfrm>
            <a:off x="5165640" y="1582560"/>
            <a:ext cx="6121440" cy="4686480"/>
          </a:xfrm>
          <a:prstGeom prst="rect">
            <a:avLst/>
          </a:prstGeom>
          <a:ln w="66600">
            <a:solidFill>
              <a:srgbClr val="41719c"/>
            </a:solidFill>
            <a:miter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8"/>
          <p:cNvGrpSpPr/>
          <p:nvPr/>
        </p:nvGrpSpPr>
        <p:grpSpPr>
          <a:xfrm>
            <a:off x="1235160" y="284040"/>
            <a:ext cx="5679720" cy="647640"/>
            <a:chOff x="1235160" y="284040"/>
            <a:chExt cx="5679720" cy="647640"/>
          </a:xfrm>
        </p:grpSpPr>
        <p:sp>
          <p:nvSpPr>
            <p:cNvPr id="437" name="AutoShape 6"/>
            <p:cNvSpPr/>
            <p:nvPr/>
          </p:nvSpPr>
          <p:spPr>
            <a:xfrm>
              <a:off x="1236960" y="284040"/>
              <a:ext cx="567792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7"/>
            <p:cNvSpPr/>
            <p:nvPr/>
          </p:nvSpPr>
          <p:spPr>
            <a:xfrm>
              <a:off x="1235160" y="284040"/>
              <a:ext cx="567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读名字，再猜一猜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8"/>
          <p:cNvSpPr/>
          <p:nvPr/>
        </p:nvSpPr>
        <p:spPr>
          <a:xfrm>
            <a:off x="5362560" y="1441440"/>
            <a:ext cx="33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它叫什么名字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1"/>
          <p:cNvSpPr/>
          <p:nvPr/>
        </p:nvSpPr>
        <p:spPr>
          <a:xfrm>
            <a:off x="5256360" y="1162080"/>
            <a:ext cx="3644640" cy="1247760"/>
          </a:xfrm>
          <a:prstGeom prst="wedgeRoundRectCallout">
            <a:avLst>
              <a:gd name="adj1" fmla="val -46962"/>
              <a:gd name="adj2" fmla="val 124662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图片 6" descr=""/>
          <p:cNvPicPr/>
          <p:nvPr/>
        </p:nvPicPr>
        <p:blipFill>
          <a:blip r:embed="rId1"/>
          <a:stretch/>
        </p:blipFill>
        <p:spPr>
          <a:xfrm>
            <a:off x="1407960" y="1693800"/>
            <a:ext cx="3549960" cy="4248360"/>
          </a:xfrm>
          <a:prstGeom prst="rect">
            <a:avLst/>
          </a:prstGeom>
          <a:ln w="0">
            <a:noFill/>
          </a:ln>
        </p:spPr>
      </p:pic>
      <p:grpSp>
        <p:nvGrpSpPr>
          <p:cNvPr id="442" name="组合 8"/>
          <p:cNvGrpSpPr/>
          <p:nvPr/>
        </p:nvGrpSpPr>
        <p:grpSpPr>
          <a:xfrm>
            <a:off x="7594560" y="3263760"/>
            <a:ext cx="2664000" cy="1393920"/>
            <a:chOff x="7594560" y="3263760"/>
            <a:chExt cx="2664000" cy="1393920"/>
          </a:xfrm>
        </p:grpSpPr>
        <p:sp>
          <p:nvSpPr>
            <p:cNvPr id="443" name="AutoShape 529"/>
            <p:cNvSpPr/>
            <p:nvPr/>
          </p:nvSpPr>
          <p:spPr>
            <a:xfrm>
              <a:off x="7594560" y="3263760"/>
              <a:ext cx="2664000" cy="1393920"/>
            </a:xfrm>
            <a:prstGeom prst="roundRect">
              <a:avLst>
                <a:gd name="adj" fmla="val 1176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图片 7" descr=""/>
            <p:cNvPicPr/>
            <p:nvPr/>
          </p:nvPicPr>
          <p:blipFill>
            <a:blip r:embed="rId2"/>
            <a:stretch/>
          </p:blipFill>
          <p:spPr>
            <a:xfrm>
              <a:off x="7778880" y="3577320"/>
              <a:ext cx="2295360" cy="876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图片 3" descr=""/>
          <p:cNvPicPr/>
          <p:nvPr/>
        </p:nvPicPr>
        <p:blipFill>
          <a:blip r:embed="rId1"/>
          <a:stretch/>
        </p:blipFill>
        <p:spPr>
          <a:xfrm>
            <a:off x="6885000" y="463680"/>
            <a:ext cx="3986280" cy="4195800"/>
          </a:xfrm>
          <a:prstGeom prst="rect">
            <a:avLst/>
          </a:prstGeom>
          <a:ln w="0">
            <a:noFill/>
          </a:ln>
        </p:spPr>
      </p:pic>
      <p:grpSp>
        <p:nvGrpSpPr>
          <p:cNvPr id="446" name="组合 4"/>
          <p:cNvGrpSpPr/>
          <p:nvPr/>
        </p:nvGrpSpPr>
        <p:grpSpPr>
          <a:xfrm>
            <a:off x="1058760" y="4870440"/>
            <a:ext cx="4376880" cy="992160"/>
            <a:chOff x="1058760" y="4870440"/>
            <a:chExt cx="4376880" cy="992160"/>
          </a:xfrm>
        </p:grpSpPr>
        <p:sp>
          <p:nvSpPr>
            <p:cNvPr id="447" name="AutoShape 42"/>
            <p:cNvSpPr/>
            <p:nvPr/>
          </p:nvSpPr>
          <p:spPr>
            <a:xfrm>
              <a:off x="1058760" y="4870440"/>
              <a:ext cx="3284280" cy="992160"/>
            </a:xfrm>
            <a:prstGeom prst="roundRect">
              <a:avLst>
                <a:gd name="adj" fmla="val 50000"/>
              </a:avLst>
            </a:prstGeom>
            <a:solidFill>
              <a:srgbClr val="ffcc00"/>
            </a:soli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43"/>
            <p:cNvSpPr/>
            <p:nvPr/>
          </p:nvSpPr>
          <p:spPr>
            <a:xfrm>
              <a:off x="1170720" y="5046120"/>
              <a:ext cx="426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长鼻子匹诺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图片 5" descr=""/>
          <p:cNvPicPr/>
          <p:nvPr/>
        </p:nvPicPr>
        <p:blipFill>
          <a:blip r:embed="rId2"/>
          <a:stretch/>
        </p:blipFill>
        <p:spPr>
          <a:xfrm>
            <a:off x="351000" y="-9360"/>
            <a:ext cx="5708520" cy="457488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42"/>
          <p:cNvSpPr/>
          <p:nvPr/>
        </p:nvSpPr>
        <p:spPr>
          <a:xfrm>
            <a:off x="7311960" y="4870440"/>
            <a:ext cx="3132360" cy="93024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3"/>
          <p:cNvSpPr/>
          <p:nvPr/>
        </p:nvSpPr>
        <p:spPr>
          <a:xfrm>
            <a:off x="6988320" y="50450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邋遢大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8"/>
          <p:cNvGrpSpPr/>
          <p:nvPr/>
        </p:nvGrpSpPr>
        <p:grpSpPr>
          <a:xfrm>
            <a:off x="1101600" y="252360"/>
            <a:ext cx="5860800" cy="650520"/>
            <a:chOff x="1101600" y="252360"/>
            <a:chExt cx="5860800" cy="650520"/>
          </a:xfrm>
        </p:grpSpPr>
        <p:sp>
          <p:nvSpPr>
            <p:cNvPr id="453" name="AutoShape 6"/>
            <p:cNvSpPr/>
            <p:nvPr/>
          </p:nvSpPr>
          <p:spPr>
            <a:xfrm>
              <a:off x="1101600" y="252360"/>
              <a:ext cx="569052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7"/>
            <p:cNvSpPr/>
            <p:nvPr/>
          </p:nvSpPr>
          <p:spPr>
            <a:xfrm>
              <a:off x="1422000" y="260280"/>
              <a:ext cx="554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比一比，学分享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16"/>
          <p:cNvGrpSpPr/>
          <p:nvPr/>
        </p:nvGrpSpPr>
        <p:grpSpPr>
          <a:xfrm>
            <a:off x="291960" y="1998720"/>
            <a:ext cx="4953960" cy="1890000"/>
            <a:chOff x="291960" y="1998720"/>
            <a:chExt cx="4953960" cy="1890000"/>
          </a:xfrm>
        </p:grpSpPr>
        <p:sp>
          <p:nvSpPr>
            <p:cNvPr id="456" name="AutoShape 12"/>
            <p:cNvSpPr/>
            <p:nvPr/>
          </p:nvSpPr>
          <p:spPr>
            <a:xfrm>
              <a:off x="622800" y="1998720"/>
              <a:ext cx="4291200" cy="1890000"/>
            </a:xfrm>
            <a:prstGeom prst="wedgeRoundRectCallout">
              <a:avLst>
                <a:gd name="adj1" fmla="val 39513"/>
                <a:gd name="adj2" fmla="val 77916"/>
                <a:gd name="adj3" fmla="val 16667"/>
              </a:avLst>
            </a:prstGeom>
            <a:noFill/>
            <a:ln cap="rnd" w="349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5"/>
            <p:cNvSpPr/>
            <p:nvPr/>
          </p:nvSpPr>
          <p:spPr>
            <a:xfrm>
              <a:off x="291960" y="2451600"/>
              <a:ext cx="495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谁的童话书最干净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组合 8"/>
          <p:cNvGrpSpPr/>
          <p:nvPr/>
        </p:nvGrpSpPr>
        <p:grpSpPr>
          <a:xfrm>
            <a:off x="7269120" y="2111400"/>
            <a:ext cx="4579920" cy="2482920"/>
            <a:chOff x="7269120" y="2111400"/>
            <a:chExt cx="4579920" cy="2482920"/>
          </a:xfrm>
        </p:grpSpPr>
        <p:pic>
          <p:nvPicPr>
            <p:cNvPr id="459" name="Picture 2" descr=""/>
            <p:cNvPicPr/>
            <p:nvPr/>
          </p:nvPicPr>
          <p:blipFill>
            <a:blip r:embed="rId1"/>
            <a:stretch/>
          </p:blipFill>
          <p:spPr>
            <a:xfrm>
              <a:off x="7269120" y="2111400"/>
              <a:ext cx="4579920" cy="24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Box 7"/>
            <p:cNvSpPr/>
            <p:nvPr/>
          </p:nvSpPr>
          <p:spPr>
            <a:xfrm>
              <a:off x="7269120" y="2465280"/>
              <a:ext cx="457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谁的童话书最有趣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1" name="Picture 558" descr="그림1"/>
          <p:cNvPicPr/>
          <p:nvPr/>
        </p:nvPicPr>
        <p:blipFill>
          <a:blip r:embed="rId2"/>
          <a:stretch/>
        </p:blipFill>
        <p:spPr>
          <a:xfrm>
            <a:off x="4745160" y="4319640"/>
            <a:ext cx="1989000" cy="1989000"/>
          </a:xfrm>
          <a:prstGeom prst="rect">
            <a:avLst/>
          </a:prstGeom>
          <a:ln w="0">
            <a:noFill/>
          </a:ln>
        </p:spPr>
      </p:pic>
      <p:sp>
        <p:nvSpPr>
          <p:cNvPr id="462" name="Oval 563"/>
          <p:cNvSpPr/>
          <p:nvPr/>
        </p:nvSpPr>
        <p:spPr>
          <a:xfrm>
            <a:off x="4618080" y="4287960"/>
            <a:ext cx="2244600" cy="1779480"/>
          </a:xfrm>
          <a:prstGeom prst="ellipse">
            <a:avLst/>
          </a:prstGeom>
          <a:gradFill rotWithShape="0">
            <a:gsLst>
              <a:gs pos="0">
                <a:srgbClr val="ffe715"/>
              </a:gs>
              <a:gs pos="100000">
                <a:srgbClr val="d2be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WordArt 560"/>
          <p:cNvSpPr txBox="1"/>
          <p:nvPr/>
        </p:nvSpPr>
        <p:spPr>
          <a:xfrm>
            <a:off x="5246640" y="4916520"/>
            <a:ext cx="104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比一比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图片 3" descr=""/>
          <p:cNvPicPr/>
          <p:nvPr/>
        </p:nvPicPr>
        <p:blipFill>
          <a:blip r:embed="rId1"/>
          <a:stretch/>
        </p:blipFill>
        <p:spPr>
          <a:xfrm>
            <a:off x="2347920" y="3997440"/>
            <a:ext cx="7496280" cy="246852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16"/>
          <p:cNvGrpSpPr/>
          <p:nvPr/>
        </p:nvGrpSpPr>
        <p:grpSpPr>
          <a:xfrm>
            <a:off x="577800" y="544680"/>
            <a:ext cx="4425120" cy="1762920"/>
            <a:chOff x="577800" y="544680"/>
            <a:chExt cx="4425120" cy="1762920"/>
          </a:xfrm>
        </p:grpSpPr>
        <p:sp>
          <p:nvSpPr>
            <p:cNvPr id="466" name="AutoShape 12"/>
            <p:cNvSpPr/>
            <p:nvPr/>
          </p:nvSpPr>
          <p:spPr>
            <a:xfrm>
              <a:off x="577800" y="544680"/>
              <a:ext cx="4264200" cy="1762920"/>
            </a:xfrm>
            <a:prstGeom prst="wedgeRoundRectCallout">
              <a:avLst>
                <a:gd name="adj1" fmla="val 48638"/>
                <a:gd name="adj2" fmla="val 89782"/>
                <a:gd name="adj3" fmla="val 16667"/>
              </a:avLst>
            </a:prstGeom>
            <a:noFill/>
            <a:ln cap="rnd" w="349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5"/>
            <p:cNvSpPr/>
            <p:nvPr/>
          </p:nvSpPr>
          <p:spPr>
            <a:xfrm>
              <a:off x="577800" y="878400"/>
              <a:ext cx="442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先看看封面，找找书名和作者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组合 8"/>
          <p:cNvGrpSpPr/>
          <p:nvPr/>
        </p:nvGrpSpPr>
        <p:grpSpPr>
          <a:xfrm>
            <a:off x="7542360" y="630360"/>
            <a:ext cx="4008240" cy="2604960"/>
            <a:chOff x="7542360" y="630360"/>
            <a:chExt cx="4008240" cy="2604960"/>
          </a:xfrm>
        </p:grpSpPr>
        <p:pic>
          <p:nvPicPr>
            <p:cNvPr id="469" name="Picture 2" descr=""/>
            <p:cNvPicPr/>
            <p:nvPr/>
          </p:nvPicPr>
          <p:blipFill>
            <a:blip r:embed="rId2"/>
            <a:stretch/>
          </p:blipFill>
          <p:spPr>
            <a:xfrm>
              <a:off x="7542360" y="630360"/>
              <a:ext cx="4007880" cy="26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TextBox 7"/>
            <p:cNvSpPr/>
            <p:nvPr/>
          </p:nvSpPr>
          <p:spPr>
            <a:xfrm>
              <a:off x="7624800" y="909720"/>
              <a:ext cx="392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喜欢这本书吗？为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Oval 563"/>
          <p:cNvSpPr/>
          <p:nvPr/>
        </p:nvSpPr>
        <p:spPr>
          <a:xfrm>
            <a:off x="5005440" y="2089080"/>
            <a:ext cx="1708200" cy="1766880"/>
          </a:xfrm>
          <a:prstGeom prst="ellipse">
            <a:avLst/>
          </a:prstGeom>
          <a:gradFill rotWithShape="0">
            <a:gsLst>
              <a:gs pos="0">
                <a:srgbClr val="ffe715"/>
              </a:gs>
              <a:gs pos="100000">
                <a:srgbClr val="d2be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WordArt 560"/>
          <p:cNvSpPr txBox="1"/>
          <p:nvPr/>
        </p:nvSpPr>
        <p:spPr>
          <a:xfrm>
            <a:off x="5337000" y="2711520"/>
            <a:ext cx="104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学分享</a:t>
            </a:r>
            <a:endParaRPr b="1" lang="en-US" sz="1400" spc="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矩形 28677"/>
          <p:cNvSpPr/>
          <p:nvPr/>
        </p:nvSpPr>
        <p:spPr>
          <a:xfrm>
            <a:off x="1495440" y="1420920"/>
            <a:ext cx="9480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全国小学语文名师工作室联盟薛法根工作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李萍萍   开  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017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8T07:26:00Z</dcterms:created>
  <dc:creator>Administrator</dc:creator>
  <dc:description/>
  <dc:language>en-US</dc:language>
  <cp:lastModifiedBy>_</cp:lastModifiedBy>
  <dcterms:modified xsi:type="dcterms:W3CDTF">2017-08-21T03:41:02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